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6858000" cy="9144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14640" y="767880"/>
            <a:ext cx="287496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C278-13AE-4BD3-B2E7-F908065C7B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14640" y="768240"/>
            <a:ext cx="287496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20F-C864-4D49-8E1B-8C94F1F7BF6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14640" y="768240"/>
            <a:ext cx="287496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823-B9B0-4C84-8CF8-3AB12A7A6B8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8E9-820D-4F0E-9E6B-79E79C7E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37C-93F5-48D0-9842-B668C47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977-9F20-48A5-A59B-FD967D31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46B-C799-4E91-9E7A-4E428A1B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F48B-21FF-40FF-90B0-8B304D26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B1DD-AF37-4E89-915B-74F91958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E729-8EAD-4810-A713-0940ADD0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9FDD-B1F6-4ADF-8F36-5097FF70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6099-D57F-4A65-B4FC-C66EE9F6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05D-E635-422B-AAFF-374F1BA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4F2-97AF-42A2-8421-3665864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888-3476-4494-B241-0FE5B71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CBB6-ECD5-4861-9F57-9B9E93DB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369B-A521-42E3-B8E4-6F9CAE0E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450-E8D0-4781-BDB2-05AF3798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7919-3034-4297-A13F-CCF124A6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C86B-21D3-4DEB-9CBC-D2F59F80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0C6-8465-43A1-B55D-E35580A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C76-24FE-426D-A526-D3EEEAEB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FA2-BEDE-4585-9CFA-31BC505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B6D-FD06-4A22-98C7-EAAC32F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672-1E37-4E9B-9D80-A8283CC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F30-A6CB-47F7-8835-4AD52D5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840-57D3-49A6-9268-CBC7AC4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88F9-154E-4FDB-AE1B-6D53F3333D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E04-3A87-4078-AE70-C1546D36F25F}" type="slidenum">
              <a:rPr b="0" lang="es-P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5"/>
          <p:cNvSpPr/>
          <p:nvPr/>
        </p:nvSpPr>
        <p:spPr>
          <a:xfrm>
            <a:off x="0" y="4184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0" y="4959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0" y="4184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0" y="4959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458640" y="635040"/>
            <a:ext cx="5994360" cy="1055160"/>
            <a:chOff x="458640" y="635040"/>
            <a:chExt cx="5994360" cy="1055160"/>
          </a:xfrm>
        </p:grpSpPr>
        <p:grpSp>
          <p:nvGrpSpPr>
            <p:cNvPr id="94" name="Group 6"/>
            <p:cNvGrpSpPr/>
            <p:nvPr/>
          </p:nvGrpSpPr>
          <p:grpSpPr>
            <a:xfrm>
              <a:off x="458640" y="635040"/>
              <a:ext cx="768600" cy="1054800"/>
              <a:chOff x="458640" y="635040"/>
              <a:chExt cx="768600" cy="1054800"/>
            </a:xfrm>
          </p:grpSpPr>
          <p:pic>
            <p:nvPicPr>
              <p:cNvPr id="95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458640" y="807120"/>
                <a:ext cx="768600" cy="88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WordArt 8"/>
              <p:cNvSpPr txBox="1"/>
              <p:nvPr/>
            </p:nvSpPr>
            <p:spPr>
              <a:xfrm>
                <a:off x="531000" y="635040"/>
                <a:ext cx="581040" cy="344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7" name="Rectangle 9"/>
            <p:cNvSpPr/>
            <p:nvPr/>
          </p:nvSpPr>
          <p:spPr>
            <a:xfrm>
              <a:off x="4402800" y="665280"/>
              <a:ext cx="2050200" cy="1024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352240" y="665280"/>
              <a:ext cx="2050200" cy="1024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1248120" y="665280"/>
              <a:ext cx="1175400" cy="102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25"/>
          <p:cNvSpPr/>
          <p:nvPr/>
        </p:nvSpPr>
        <p:spPr>
          <a:xfrm>
            <a:off x="1484280" y="7829640"/>
            <a:ext cx="51436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747720" y="3521160"/>
            <a:ext cx="56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ESTADOS PRESUPUESTA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EJERCICIO 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9"/>
          <p:cNvGraphicFramePr/>
          <p:nvPr/>
        </p:nvGraphicFramePr>
        <p:xfrm>
          <a:off x="142920" y="142920"/>
          <a:ext cx="6500880" cy="878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6500880" cy="87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14 Llamada rectangular redondeada"/>
          <p:cNvSpPr/>
          <p:nvPr/>
        </p:nvSpPr>
        <p:spPr>
          <a:xfrm flipH="1">
            <a:off x="2142360" y="8358120"/>
            <a:ext cx="2786040" cy="428760"/>
          </a:xfrm>
          <a:prstGeom prst="wedgeRoundRectCallout">
            <a:avLst>
              <a:gd name="adj1" fmla="val -94837"/>
              <a:gd name="adj2" fmla="val -5515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SA 8301 + SA 8401 + SA 8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Abrir llave"/>
          <p:cNvSpPr/>
          <p:nvPr/>
        </p:nvSpPr>
        <p:spPr>
          <a:xfrm>
            <a:off x="1000080" y="3714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0" y="361800"/>
          <a:ext cx="685800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1800"/>
                    <a:ext cx="68580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Rectángulo redondeado"/>
          <p:cNvSpPr/>
          <p:nvPr/>
        </p:nvSpPr>
        <p:spPr>
          <a:xfrm>
            <a:off x="482760" y="1071720"/>
            <a:ext cx="6000480" cy="642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00000"/>
                </a:solidFill>
                <a:latin typeface="Verdana"/>
              </a:rPr>
              <a:t>SALDOS  DE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8 Rectángulo redondeado"/>
          <p:cNvSpPr/>
          <p:nvPr/>
        </p:nvSpPr>
        <p:spPr>
          <a:xfrm>
            <a:off x="374760" y="2357280"/>
            <a:ext cx="6197400" cy="5429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recursos financieros distintos a la Fuente de Financiamiento "Recursos Ordinarios", que no se han utilizado a la culminación del Año Fiscal. Durante  la  ejecución presupuestaria, dichos saldos se podrán incorporar para  financiar la  creación o modificación de metas presupuestarias que  requieran mayor  financiamiento, mediante Crédito Suplementario   (PP-1  y PP-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registrados financieramente cuando se determine  su cuantía. Se mostrará en el EP-1  del mes de enero (ingresar los primeros días del referido 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Rectángulo redondeado"/>
          <p:cNvSpPr/>
          <p:nvPr/>
        </p:nvSpPr>
        <p:spPr>
          <a:xfrm>
            <a:off x="214200" y="1571760"/>
            <a:ext cx="6429600" cy="6357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908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ey Nº 28112 – Ley Marco de la Administración Financiera d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ctor Públ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ey Nº 28411 – Ley General del Sistema Nacional de Presu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ey Nº 28708 – Ley General del Sistema Nacional de Conta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ey Nº 29465 – Ley de Presupuesto del Sector Publico para el 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iscal  2010, Tercera Disposición Fina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olución Directoral Nº 004-2008-EF/93.01 que modifica l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rectiva  “Preparación y presentación de información financier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supuestaria    trimestral y semestral, por las entidades usuari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l Sistema de Contabilidad  Gubernamental” aprobada por R.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°009-2007-EF/93.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olución Directoral Nº 004-2010-EF/93.01, que  aprueba 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rectiva Nº   002-2010-EF/93.01“Conciliaciòn del Marco Legal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supuesto  por  las  entidades gubernamentales  del estad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irectiva N° 003 - 2010-EF/93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CIERRE CONTABLE Y PRESENTACIÓN DE INFORMACIÓN  PARA 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ABORACIÓN  DE LA CUENTA GENERAL DE LA REPÚBLIC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 Rectángulo redondeado"/>
          <p:cNvSpPr/>
          <p:nvPr/>
        </p:nvSpPr>
        <p:spPr>
          <a:xfrm>
            <a:off x="785880" y="500040"/>
            <a:ext cx="5286240" cy="500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0000"/>
                </a:solidFill>
                <a:latin typeface="Verdana"/>
              </a:rPr>
              <a:t>CONCILIACIÓN  MARCO LEGAL  DEL PRESU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1 Rectángulo redondeado"/>
          <p:cNvSpPr/>
          <p:nvPr/>
        </p:nvSpPr>
        <p:spPr>
          <a:xfrm>
            <a:off x="285840" y="428760"/>
            <a:ext cx="6429240" cy="8072280"/>
          </a:xfrm>
          <a:custGeom>
            <a:avLst/>
            <a:gdLst>
              <a:gd name="textAreaLeft" fmla="*/ 313560 w 6429240"/>
              <a:gd name="textAreaRight" fmla="*/ 6115680 w 6429240"/>
              <a:gd name="textAreaTop" fmla="*/ 313560 h 8072280"/>
              <a:gd name="textAreaBottom" fmla="*/ 7758720 h 8072280"/>
            </a:gdLst>
            <a:ahLst/>
            <a:rect l="textAreaLeft" t="textAreaTop" r="textAreaRight" b="textAreaBottom"/>
            <a:pathLst>
              <a:path w="21600" h="27120">
                <a:moveTo>
                  <a:pt x="3600" y="0"/>
                </a:moveTo>
                <a:arcTo wR="3600" hR="3600" stAng="16200000" swAng="-5400000"/>
                <a:lnTo>
                  <a:pt x="0" y="23520"/>
                </a:lnTo>
                <a:arcTo wR="3600" hR="3600" stAng="10800000" swAng="-5400000"/>
                <a:lnTo>
                  <a:pt x="18000" y="27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RESOLUCIÓN  DIRECTORAL  004-2010-EF/93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Aprueba Directiva  de Conciliación del Marco Leg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Conciliación de la  Ejecución  Presupuestari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 conciliación de  ingresos  y gastos  será realizada  en los  plieg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supuestar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    </a:t>
            </a:r>
            <a:r>
              <a:rPr b="0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Determina  responsabilidad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    </a:t>
            </a:r>
            <a:r>
              <a:rPr b="1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Plazos de Periodicidad Semestral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resentación se efectuará con periodicidad semestral y dentr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reinta  días calendario de finalizado el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imer semestre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todas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idades gubernamentales del Est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Gobiernos Locales,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stitutos Viales Provinciales y las Sociedad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eneficencia Públic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, efectuarán las presentación en el plazo que v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28 de febrero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l año siguiente a la finalización del ejercicio fis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Gobierno Nacional y Gobierno Reg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acuerdo al plazo que les señale  el Cronograma que  se  publicará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portunamente en  el  Diario Oficial “El  Peruano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Rectángulo"/>
          <p:cNvSpPr/>
          <p:nvPr/>
        </p:nvSpPr>
        <p:spPr>
          <a:xfrm>
            <a:off x="1071720" y="3786120"/>
            <a:ext cx="22143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Arial"/>
              </a:rPr>
              <a:t>PRIMER  SE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Rectángulo"/>
          <p:cNvSpPr/>
          <p:nvPr/>
        </p:nvSpPr>
        <p:spPr>
          <a:xfrm flipV="1" rot="10800000">
            <a:off x="1071360" y="5000760"/>
            <a:ext cx="214308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Arial"/>
              </a:rPr>
              <a:t>SEGUNDO SE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4"/>
          <p:cNvSpPr/>
          <p:nvPr/>
        </p:nvSpPr>
        <p:spPr>
          <a:xfrm>
            <a:off x="285840" y="1428840"/>
            <a:ext cx="6429240" cy="7500960"/>
          </a:xfrm>
          <a:custGeom>
            <a:avLst/>
            <a:gdLst>
              <a:gd name="textAreaLeft" fmla="*/ 30600 w 6429240"/>
              <a:gd name="textAreaRight" fmla="*/ 6460200 w 6429240"/>
              <a:gd name="textAreaTop" fmla="*/ 972360 h 7500960"/>
              <a:gd name="textAreaBottom" fmla="*/ 6528600 h 7500960"/>
            </a:gdLst>
            <a:ahLst/>
            <a:rect l="textAreaLeft" t="textAreaTop" r="textAreaRight" b="textAreaBottom"/>
            <a:pathLst>
              <a:path w="21600" h="21600">
                <a:moveTo>
                  <a:pt x="104" y="1400"/>
                </a:moveTo>
                <a:cubicBezTo>
                  <a:pt x="7252" y="-3560"/>
                  <a:pt x="14452" y="6360"/>
                  <a:pt x="21600" y="1400"/>
                </a:cubicBezTo>
                <a:lnTo>
                  <a:pt x="21496" y="20200"/>
                </a:lnTo>
                <a:cubicBezTo>
                  <a:pt x="14348" y="25160"/>
                  <a:pt x="7148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RECTIVA Nº 002-2010-EF/93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ormación Proporcionada por las Entidades Pu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pias  fotostáticas  de los dispositivos legales debidamente autent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dos, relacionados  con el presupuesto inicial y las  modif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upuestarias  en el  nivel institucional y funcional programático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renden las  notas  y anexos correspondientes y deben remiti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tes de las  reuniones  de  coordi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6"/>
          <p:cNvSpPr/>
          <p:nvPr/>
        </p:nvSpPr>
        <p:spPr>
          <a:xfrm>
            <a:off x="214200" y="214200"/>
            <a:ext cx="6500880" cy="85726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0">
            <a:noFill/>
          </a:ln>
          <a:effectLst>
            <a:outerShdw dist="107932" dir="135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siciones para la Conciliación del 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egal del Presu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   La Conciliación del Marco Legal del Presupuesto de Gasto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fectuarà a nivel de pliego, por Fuente de Financiamiento, des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regado en Gasto Corriente, Gasto de Capital y Servici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uda, así como por genérica de gasto. En lo que correspond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s entidades Captadoras, la Conciliación de efectuara a nivel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pecifica del In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    La información presupuestaria se detallarà en la “Hoja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Resoluciones de Ingreso” y “Hoja de trabajo de Re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Gasto”, por fuente de Financiamiento, Rubro y Genéric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greso y Ga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    Las conciliaciones al interior del Pliego y Unidad Ejecutora, d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r efectuada por los responsables de las oficinas de presupue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abilidad, logística, tesorería y personal, de manera previ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fecha de conciliación con la Dirección Nacional de Co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4     La Oficina de Presupuesto del Pliego o la que haga sus ve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gra la información, la transmite a través del SIAF y/o SI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gún corresponda y la presenta a la Dirección Nacional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abilidad Publica con anterioridad al orden de fechas establ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idas en el Cronograma de Plazos para la Conciliación del Mar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egal del Presupue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     El Acta de Conciliación del Marco Legal de Presupuesto 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fectúa  a  nivel de pliego, tendrá carácter  de Decla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Jur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7"/>
          <p:cNvSpPr/>
          <p:nvPr/>
        </p:nvSpPr>
        <p:spPr>
          <a:xfrm>
            <a:off x="285840" y="785880"/>
            <a:ext cx="6357960" cy="61434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  <a:ea typeface="Arial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  <a:ea typeface="Arial"/>
              </a:rPr>
              <a:t>      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  <a:ea typeface="Arial"/>
              </a:rPr>
              <a:t>Jefe Oficina de Presupuesto y de la Oficina General de Adminis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  <a:ea typeface="Arial"/>
              </a:rPr>
              <a:t>t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0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Delegaciòn de la Representaciòn de Suscripción del 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</a:t>
            </a:r>
            <a:r>
              <a:rPr b="0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de Concil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  <a:ea typeface="Arial"/>
              </a:rPr>
              <a:t>         </a:t>
            </a:r>
            <a:r>
              <a:rPr b="1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  <a:ea typeface="Arial"/>
              </a:rPr>
              <a:t>Delegar mediante comunicación escrit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        </a:t>
            </a:r>
            <a:r>
              <a:rPr b="0" lang="es-MX" sz="1400" spc="-1" strike="noStrike">
                <a:solidFill>
                  <a:srgbClr val="000000"/>
                </a:solidFill>
                <a:latin typeface="Arial Black"/>
                <a:ea typeface="Arial"/>
              </a:rPr>
              <a:t>De Organismos  Desactivados o Fusion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  <a:ea typeface="Arial"/>
              </a:rPr>
              <a:t>La  entidades  absorbentes presentan y concilian la inform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6"/>
          <p:cNvSpPr/>
          <p:nvPr/>
        </p:nvSpPr>
        <p:spPr>
          <a:xfrm>
            <a:off x="214200" y="1428840"/>
            <a:ext cx="6643800" cy="72864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0">
            <a:noFill/>
          </a:ln>
          <a:effectLst>
            <a:outerShdw dist="107932" dir="135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4.1 LAS ENTIDADES CAPTADORAS DE RECURSOS FINANCIEROS, DE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RESENTAR LA INFORMACIÓN 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b) Información Presupues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stado de la Programación y Ejecución del Presupuesto de Ingresos (PEPI)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argo  de  la  Superintendencia  Nacional  de  Administración  Tributaria  y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irección  Nacional del Endeudamiento Públ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) Información Comple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onciliación del Marco Legal del Presupuesto de Ingresos con el órgano 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el Sistema Nacional de 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4.2 LAS ENTIDADES EJECUTORAS DE GASTOS E INVERSIÓN, DEB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RESENTAR LA INFORMACIÓN SIGUI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b)  Información de Ejecución Presupues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- EP-1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Estado de Ejecución del Presupuesto de Ingresos y Gastos y Anex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P-1 Gastos (por específica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P-2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Estado de Fuente y Uso de Fon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)  Información  Presupues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stados Presupues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-1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Presupuesto Institucional de Ingresos, Anexo del Presupuesto Instit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onal de Ingresos – PP-1 ( a  nivel específic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P-2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Presupuesto Institucional de Gastos, Anexo del Presupuesto Instit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onal de Gastos- PP-2 (a  nivel  específic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P-3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Clasificación Funcional del Ga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P-4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istribución Geográfica del Ga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Rectángulo"/>
          <p:cNvSpPr/>
          <p:nvPr/>
        </p:nvSpPr>
        <p:spPr>
          <a:xfrm flipV="1" rot="10800000">
            <a:off x="357120" y="357120"/>
            <a:ext cx="6143760" cy="6429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IRECTIVA N° 003 - 2010-EF/93.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CIERRE CONTABLE Y PRESENTACIÓN DE INFORMACIÓN PARA LA ELABORACIÓN DE LA CUENTA GENERAL DE LA RE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6"/>
          <p:cNvSpPr/>
          <p:nvPr/>
        </p:nvSpPr>
        <p:spPr>
          <a:xfrm>
            <a:off x="214200" y="428760"/>
            <a:ext cx="6500880" cy="8286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0">
            <a:noFill/>
          </a:ln>
          <a:effectLst>
            <a:outerShdw dist="107932" dir="135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ciliación del Marco Legal del Presupuesto de Gastos con el órg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tor del Sistema Nacional de Conta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tas a los Estados Presupues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as notas a los estados presupuestarios incluirán un análisis explica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de  las  principales variaciones  que  se producen  en  los  presupues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rogramados y ejecutados respecto al ejercicio ant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g) Información sobre Transferencias Financieras Recibidas y Otorg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 T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FR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ransferencias Financieras Recib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FO-1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Transferencias Financieras Otorg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TFO-2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lasificación Funcional de Transferencias Financieras Otorg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TFO-3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Distribución Geográfica de las Transferencias Financ. Otorg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as de Conciliació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or las Transferencias Financieras Recibida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Otorgadas entre Entidades d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La información que se consigna en los Anexos sobre Trans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Financieras mostrará únicamente las transferencias otorgadas y recib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orrespondientes al presupuesto del ejercicio vig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MX" sz="1200" spc="-1" strike="noStrike">
                <a:solidFill>
                  <a:srgbClr val="000000"/>
                </a:solidFill>
                <a:latin typeface="Arial"/>
              </a:rPr>
              <a:t>4. ELABORACION Y PRESENTACIÓN DE LOS  ESTADOS PRESUPUES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142920" y="571680"/>
          <a:ext cx="6572160" cy="857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71680"/>
                    <a:ext cx="6572160" cy="85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4 Llamada rectangular redondeada"/>
          <p:cNvSpPr/>
          <p:nvPr/>
        </p:nvSpPr>
        <p:spPr>
          <a:xfrm flipH="1">
            <a:off x="-720" y="8643960"/>
            <a:ext cx="3429000" cy="500040"/>
          </a:xfrm>
          <a:prstGeom prst="wedgeRoundRectCallout">
            <a:avLst>
              <a:gd name="adj1" fmla="val -40254"/>
              <a:gd name="adj2" fmla="val -74921"/>
              <a:gd name="adj3" fmla="val 16667"/>
            </a:avLst>
          </a:prstGeom>
          <a:solidFill>
            <a:srgbClr val="92d05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Black"/>
              </a:rPr>
              <a:t>TOTAL GENERAL  - RO =   SD 85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Black"/>
              </a:rPr>
              <a:t>TOTAL (Fte. Fcto.)        =   SD 8501 (Fte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MX" sz="1000" spc="-1" strike="noStrike">
                <a:solidFill>
                  <a:srgbClr val="000000"/>
                </a:solidFill>
                <a:latin typeface="Arial Black"/>
              </a:rPr>
              <a:t>Fcto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Llamada rectangular redondeada"/>
          <p:cNvSpPr/>
          <p:nvPr/>
        </p:nvSpPr>
        <p:spPr>
          <a:xfrm>
            <a:off x="4357800" y="8643960"/>
            <a:ext cx="2193840" cy="500040"/>
          </a:xfrm>
          <a:prstGeom prst="wedgeRoundRectCallout">
            <a:avLst>
              <a:gd name="adj1" fmla="val 47731"/>
              <a:gd name="adj2" fmla="val -82513"/>
              <a:gd name="adj3" fmla="val 1666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SALDO  ACREEDOR   8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3"/>
          <p:cNvGraphicFramePr/>
          <p:nvPr/>
        </p:nvGraphicFramePr>
        <p:xfrm>
          <a:off x="428760" y="0"/>
          <a:ext cx="6429240" cy="864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0"/>
                    <a:ext cx="6429240" cy="864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3 Llamada rectangular redondeada"/>
          <p:cNvSpPr/>
          <p:nvPr/>
        </p:nvSpPr>
        <p:spPr>
          <a:xfrm flipH="1">
            <a:off x="2214000" y="8215200"/>
            <a:ext cx="3214440" cy="500040"/>
          </a:xfrm>
          <a:prstGeom prst="wedgeRoundRectCallout">
            <a:avLst>
              <a:gd name="adj1" fmla="val -68652"/>
              <a:gd name="adj2" fmla="val -176541"/>
              <a:gd name="adj3" fmla="val 16667"/>
            </a:avLst>
          </a:prstGeom>
          <a:solidFill>
            <a:srgbClr val="92d05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(SD 8501 + RO ) – SA 860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214200" y="214200"/>
          <a:ext cx="6500880" cy="878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14200"/>
                    <a:ext cx="6500880" cy="87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6715080" cy="8715600"/>
          </a:xfrm>
          <a:prstGeom prst="rect">
            <a:avLst/>
          </a:prstGeom>
          <a:ln w="0">
            <a:noFill/>
          </a:ln>
        </p:spPr>
      </p:pic>
      <p:sp>
        <p:nvSpPr>
          <p:cNvPr id="115" name="4 Llamada rectangular redondeada"/>
          <p:cNvSpPr/>
          <p:nvPr/>
        </p:nvSpPr>
        <p:spPr>
          <a:xfrm>
            <a:off x="5572080" y="7572240"/>
            <a:ext cx="1285920" cy="428760"/>
          </a:xfrm>
          <a:prstGeom prst="wedgeRoundRectCallout">
            <a:avLst>
              <a:gd name="adj1" fmla="val -85879"/>
              <a:gd name="adj2" fmla="val -6406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EP-1  (GAS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Llamada rectangular redondeada"/>
          <p:cNvSpPr/>
          <p:nvPr/>
        </p:nvSpPr>
        <p:spPr>
          <a:xfrm flipH="1" flipV="1" rot="10800000">
            <a:off x="1284840" y="7499880"/>
            <a:ext cx="1785960" cy="571320"/>
          </a:xfrm>
          <a:prstGeom prst="wedgeRoundRectCallout">
            <a:avLst>
              <a:gd name="adj1" fmla="val 96347"/>
              <a:gd name="adj2" fmla="val -61180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PI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PP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5"/>
          <p:cNvGraphicFramePr/>
          <p:nvPr/>
        </p:nvGraphicFramePr>
        <p:xfrm>
          <a:off x="641520" y="379440"/>
          <a:ext cx="5930640" cy="855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379440"/>
                    <a:ext cx="5930640" cy="855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6 Llamada rectangular redondeada"/>
          <p:cNvSpPr/>
          <p:nvPr/>
        </p:nvSpPr>
        <p:spPr>
          <a:xfrm flipH="1">
            <a:off x="1143000" y="8286840"/>
            <a:ext cx="2000160" cy="571320"/>
          </a:xfrm>
          <a:prstGeom prst="wedgeRoundRectCallout">
            <a:avLst>
              <a:gd name="adj1" fmla="val -85115"/>
              <a:gd name="adj2" fmla="val -16279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PP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Llamada rectangular redondeada"/>
          <p:cNvSpPr/>
          <p:nvPr/>
        </p:nvSpPr>
        <p:spPr>
          <a:xfrm flipH="1">
            <a:off x="5357160" y="8286840"/>
            <a:ext cx="1500120" cy="500040"/>
          </a:xfrm>
          <a:prstGeom prst="wedgeRoundRectCallout">
            <a:avLst>
              <a:gd name="adj1" fmla="val 50842"/>
              <a:gd name="adj2" fmla="val -14376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Black"/>
              </a:rPr>
              <a:t>EP-1  (Gas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9"/>
          <p:cNvGraphicFramePr/>
          <p:nvPr/>
        </p:nvGraphicFramePr>
        <p:xfrm>
          <a:off x="214200" y="142920"/>
          <a:ext cx="6429600" cy="885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2920"/>
                    <a:ext cx="6429600" cy="88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13 Llamada rectangular redondeada"/>
          <p:cNvSpPr/>
          <p:nvPr/>
        </p:nvSpPr>
        <p:spPr>
          <a:xfrm flipH="1">
            <a:off x="1713960" y="8001000"/>
            <a:ext cx="3429000" cy="571680"/>
          </a:xfrm>
          <a:prstGeom prst="wedgeRoundRectCallout">
            <a:avLst>
              <a:gd name="adj1" fmla="val -85888"/>
              <a:gd name="adj2" fmla="val -4698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PIM – RO  = SD 8501 + SD 8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Black"/>
              </a:rPr>
              <a:t>PIM – RO  = SD 8501 – SA 8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9:48:13Z</dcterms:created>
  <dc:creator>jporras</dc:creator>
  <dc:description/>
  <dc:language>en-US</dc:language>
  <cp:lastModifiedBy>mef</cp:lastModifiedBy>
  <dcterms:modified xsi:type="dcterms:W3CDTF">2010-12-20T21:18:19Z</dcterms:modified>
  <cp:revision>186</cp:revision>
  <dc:subject/>
  <dc:title>Diapositiva 1</dc:title>
</cp:coreProperties>
</file>